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wmf" ContentType="image/x-wmf"/>
  <Override PartName="/ppt/media/image23.png" ContentType="image/pn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30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20.wmf" ContentType="image/x-wmf"/>
  <Override PartName="/ppt/media/image26.jpeg" ContentType="image/jpeg"/>
  <Override PartName="/ppt/media/image21.png" ContentType="image/png"/>
  <Override PartName="/ppt/media/image11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703-64B4-44E6-ADC4-36A20BEE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302-9660-4F42-A97B-FCB672C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9952E-1EAF-4A79-8796-5DCA11CB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21F9B-D964-4B2E-8458-9CBD5A6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9DBDF-A288-428A-A4CF-5753AC68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FAF5D-4605-4F27-88BB-4DDB2C9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994F-CD4D-4820-9CE6-A7485F6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800B3-6EF3-4158-A591-B206D4F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CE6F-1820-4B00-83AD-A269E5AF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4B302-A4F8-49EE-9A3B-34F065BA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C0894-44E1-4B02-92D5-0B320AD3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D3EFD-FFB6-45A5-9678-93641E67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8BF-336F-4449-8EFC-99F64926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D04A6-6C7E-4AE4-9D35-75DF956D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9E3C8-B8C5-4974-A3DA-EE7AE9B6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DAED2-00E8-405F-B24C-F92A6602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9EE3-201D-4876-B58F-20A9105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861B8-29F2-44FA-9B88-911054B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6B8BB-A8BE-4E5E-8D6C-50E84A9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CE23B-C99C-410B-8CC5-E1DB3FB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9572B-D455-4301-8F2D-0DC712C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0C34B-8543-4A47-A1A6-D113B87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C96EC-27F0-46D3-A504-B71A3D2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7D5-478E-40DA-B140-5D1F6DE9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942DA-36EF-413C-8ED6-0870ACE8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F53D59-3417-4297-BF33-D230CE31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24F719-A9D9-4E97-ACFE-827181B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00F682-1C10-4E94-9C21-366D8C9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DEFA42-6025-4170-B10E-5ACBFC7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AEE6FC-0630-4037-995B-F14398D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64881E-04AD-4F52-BA18-FF0875F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F7C172-1D08-4B35-8C7E-D614CB1A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9383A5-1D5B-43E0-BB21-89D3841B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D58807-B78E-4FEB-88EF-7D405D4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430B-ADAD-4E0C-8101-E8D8CE13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97E25-196D-4810-9321-466B055C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B3A5CE-BF1E-45FE-B9AD-AA763AAA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81838D-0810-41C4-87A2-BFB84320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25165-C56A-4997-8BF4-5392AE1C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E38AD-2F8D-4299-87AD-BC8F7B4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0DAB3-BA10-412E-B844-6DB992DC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4D55E-76B0-4D65-BD9B-8C0B77F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D2D98-966F-497A-B9F0-4F14D654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4130-B76A-4AC7-86BF-283AA28D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26F72-8B4C-4488-901A-712AF1F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C3D-1AFA-41A5-B0F1-4E523E5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4223F-57C2-4EDD-9562-8E1D778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A80AA-88D9-4CD2-A87A-A6F772D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01A9B-9252-465E-8B0A-A6D9FF27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2DFE4-4221-48DC-B013-43B100C5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C0FCE-B5BB-4D04-99FF-9C3DD91F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11D3B-6C54-4736-AC3C-072E33CA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4BA33-36EE-4215-A642-549D036B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151DD-C9D3-4AD7-BC3C-4C26E73D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3EBB7-A411-47BE-8DFF-F1291B5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90AE4-40E0-4060-ADE5-2F4B31D3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405A-C2F7-4F52-8655-3FAAD5C5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ACF1F-3F8F-4D6A-86B2-0783D2E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18FC1-DAAB-4443-9459-AEFFD441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18D03-7783-4F57-866C-1A0BEC8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12B27-64F9-47F5-884C-8F6CA8D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0AB0B-67CC-47F1-8936-4596EF35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7E51E-AFFD-4FBD-AB13-769C80B3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331E1-46DC-4CEA-AAA4-8435AC91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BE964-7C7B-466B-B7E7-351F8297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70B7F-C58B-44D0-A0C7-CD43436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B25AC-94F2-4DCC-8B0D-6358BBD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5F4-1577-498B-9B94-46AF581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AA3F9-F448-4150-9859-23EAE1E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BB85A-AD3E-4ED0-B794-2CA021AD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44419-B565-49D6-9AA7-02EE9D30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4C1D5-D33A-4EC3-9AE8-C58DDB1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B75CA-D554-460A-A48D-529F0A44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B3318-61A9-4113-BACF-F47F9FD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948C8-0F59-470C-BF3C-741565F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44DA6-96B3-4661-AA21-F1449349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7505D-8CC3-4CA4-B9F3-D684B6D4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CA2BA-664B-452C-B5BA-AA1DE3D1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358-95E2-4133-AB8A-08535606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DB66D-9DD7-48CA-AAC7-046775C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911FF-EA04-4A29-A881-C80ABA4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288F1-787D-4630-B006-2F9F8857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E6840-4771-4583-BCB5-2FC3FA49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2D18F-21A4-4EBA-8909-56685A5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79BC9-CD99-4E9E-9343-9DAD997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65A2C-A9FA-4331-95FF-26169F6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9E600-C099-4F1D-AC99-E299BAD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4D3C3-CC73-48DA-9801-9CC056D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BB535-030B-4C3A-865F-8500E50D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C3A8-50C0-4A60-92CD-E1AF1560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103C3-A80A-459A-A592-1E019D44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40508-6516-4976-8D1C-3A8C8366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9EB91-6140-4F24-8D9A-C30C6CC9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2514F-68C6-4B53-A7D8-368D6673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465BF-7B69-4C58-8A2C-153FBBE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94D83-A401-446C-A800-622F7C86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3166B-F455-454A-8B47-9A4CBD8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5307B-22CB-43E7-9F61-880855E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002B3-2224-4D39-9F16-A4CE20B1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95131-9646-4CC7-988C-1E262AC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632B-D52F-4815-A4E3-A4B4F394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8FAFE-5640-4CED-B160-7A4B0C6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4F736-5B8A-43DB-A2C9-F9FC14DE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CFED1-6F9B-4F0B-B89C-D7DA13D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C93-E6FE-482A-A36B-CE919711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5E1-7333-4633-8D28-22F4890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8ED1-5772-47CC-A83F-829A7FDC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1558-FC99-4B92-83F7-A15C285A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F240-D02F-4A17-8EDE-07A13507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AF9-0BA3-4689-80ED-AA98BEAE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3D9F-E502-45B9-A41B-5B021979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42AF-4402-4F71-927D-BA7E9B69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8972-BA3A-4079-9C8E-2273AF3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C917-3B7B-4EB3-8B66-2A6EAA9C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32A1-F8CE-4AEE-807D-A101ED8A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1DA-2DC0-4AA9-AE5E-1228F87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672F-A83B-4E81-A786-9F9FDB5E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8AA6-4933-42EC-9354-FEECA43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CE208-9BEE-4E65-888D-7A845969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B7ED-7AA1-41E5-B264-E12C067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56C0-9B9D-419A-BE79-FE0211FA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543C-CBF9-4DAD-8C91-D5360A91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4245-B8B7-4021-8413-E0ECFCD3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0898C9-DFA9-4DEE-B76C-3BC1A963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4EB2E-2630-490B-B58B-1DB13A2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8A889-07E8-4116-87E7-8347975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271-3861-414B-A820-74A60E1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D9108-6369-4465-BBE4-067B5F1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A8CA5-E79A-4062-B2B9-ECA165C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124C1-317A-49AA-9883-0CAFAEA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4C8BC-464F-4E2F-9B41-B86B09D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5ABA0-C5FD-4AD3-8A6D-3D082F2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2C71E-A424-49C8-BC59-A520349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317FF-3A77-4485-8E92-945E83F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C9C3F-9C4A-4C69-AA4D-2968832D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15223-D8DB-4DEB-968C-DEEA5051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CEB59-7DD4-42F6-BBD3-EA9413B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23-2F23-4FDF-8356-4D740C5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74C79-0B81-4330-9BCC-447A4D6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4A688-6ED2-4658-8A13-DE6F7AEF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F239C-A79C-43B3-A3D5-13261748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ED287-61E6-4151-A6CA-B329D144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F2C3B-9D93-4C67-BB49-03C9DE2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1997D-61AD-49E5-B753-A49C48F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90951-DE55-4155-ADEE-D49C5EAB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070C5-AD61-42B2-81B5-1F0BFEC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396A0-176C-49D0-8A58-53621D86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737FC-DF0B-46D3-AB36-EEF6899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AB6-8C2C-4F2C-ABD2-A56F9DE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87B4F-EA5B-461A-8A0F-A950D938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25E8-3824-4171-B2F2-03AC1E6A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318C-0AFF-4521-BE0B-8599A21C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A2F82-01A5-4572-A574-F262759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653B-5734-4322-A330-9B8BF80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42A5-0786-4E08-B449-96AFD2E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8C9FF-D73F-4E41-A59D-1CA582F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50592-5335-45C0-88E3-294E24D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AF4D-13D2-4620-B34E-6C4ABA8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BBCF8-8CC8-4B2C-AD93-F0383F0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0A0-3599-44E2-A76B-79C1EF9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C95DC-2054-4DAC-B2D0-649326F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8A594-0F6D-440F-B031-5E46A63A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5E9B-4668-4C9D-A73B-8BEB2936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D311-7BA4-4B58-9AE4-C720A079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4DE92-ED45-4E5F-858E-8CB9DA3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F817B-EA09-4C3D-AB72-AB1B3BF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E5A17-FA3B-469F-AABA-8C12493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5314-A046-4C16-9D85-CBAC707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7242-E58E-499A-8A41-97ED1C6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DA0C-5386-438F-B57B-386D905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E38-CFDD-42C0-9417-5E6A5A8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8EC31-4C73-4227-90D6-67D63B4E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7648B-72CE-4CDE-806D-BD00F4ED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67A3-6DB3-4BCE-A9A2-8B29F15F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A2943-EB8E-40E6-BB52-4F011B32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114E-9C87-4C70-BD9A-DAC88CA6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0C5E-3B93-400B-883A-02F7C3C9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47BC-9C29-4407-A4E6-A68C94E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6215-1306-43B5-83C1-E1D059F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F4F7-2372-44B8-9F10-123B4B4F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A90FE-257D-4CBC-BA66-0E0238A6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7B8-1C7B-45B0-B9CE-D1937700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2859-8D6A-4771-8031-7E53CE3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5D9CC-93BC-4F12-8841-98DE03A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0E94C-B799-4CC9-987E-B7C6BBD9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1310-9158-4BD7-AF1C-6A896862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B8DC4-97D4-4BB3-90AA-0DABC58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A80CE-965C-4D30-93FA-3C2CB9D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24121-405A-40F2-AAC8-C3F4C775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9B89E-37C9-400C-86D3-4DF4AB53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D6DA9-BAF4-4B85-B599-7245F16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447B1-C1BB-481F-83E0-EF7D2C7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E31-87A3-4879-94BC-284FBBF6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6BE-5C2E-4393-AF16-6909A2AE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DCDA-D7D2-48F1-A3C9-FB110C013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0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BF4A-A271-4CE3-AD74-E9EB0454F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6E7-004F-4DA7-92A6-1D8EBA22A0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8E75-0FAE-422A-8DC9-6DC1E61376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5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7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8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9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CED-4CFD-4D56-907A-889064C2EAE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5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5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5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5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6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7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7C8-EC61-4CF1-B041-28402E354C7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076D-5DAF-426E-A17C-B65E6CE7B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CA30-0046-4140-ABEA-C9F1D65AD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838A-136D-4F5F-8208-15FC7F81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AF6-E68D-4BF8-BB18-769D305206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770D-AA8D-4C2A-9F3F-CB98522EE9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7B45-E9A5-4304-9DE2-62A70980A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682-0382-4C05-B8AC-12589A297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401-26E4-4D13-BE63-32816ED61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Garamond"/>
              </a:rPr>
              <a:t>La  Cas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Garamond"/>
              </a:rPr>
              <a:t>Julia Sic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238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Mi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La casa es r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  <a:ea typeface="Tahoma"/>
              </a:rPr>
              <a:t>ú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stico. Es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086600" cy="35053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6705720" y="1219320"/>
            <a:ext cx="1904760" cy="18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-2514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B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876560" cy="395604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32200" y="3276720"/>
            <a:ext cx="29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na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361960" cy="157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257800" cy="34052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5335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5400" y="178596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a sala. Es un tropica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2971800" cy="229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omed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511440" cy="45529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578160" y="14050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comedor. Es gra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2667240" cy="181944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3"/>
          <a:stretch/>
        </p:blipFill>
        <p:spPr>
          <a:xfrm>
            <a:off x="7315200" y="3581280"/>
            <a:ext cx="1289160" cy="176076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191120" y="4648320"/>
            <a:ext cx="256680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683280" y="163368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jardin boni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5314680" cy="33256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1652760" cy="174636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772200" y="178596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a cocina. Es un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 rot="20382000">
            <a:off x="5715000" y="510552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3"/>
          <a:stretch/>
        </p:blipFill>
        <p:spPr>
          <a:xfrm rot="1119600">
            <a:off x="304920" y="236196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7" dur="2000" fill="hold"/>
                                        <p:tgtEl>
                                          <p:spTgt spid="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904320" y="338040"/>
            <a:ext cx="277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Tahoma"/>
              </a:rPr>
              <a:t>El Cuart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968040" y="16336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Tahoma"/>
              </a:rPr>
              <a:t>ES un cuarto fabul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867640" cy="39117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2322360" cy="2210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  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2133360" cy="182736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962520" y="762120"/>
            <a:ext cx="1373040" cy="179208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4"/>
          <a:stretch/>
        </p:blipFill>
        <p:spPr>
          <a:xfrm>
            <a:off x="6553080" y="114300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5"/>
          <a:stretch/>
        </p:blipFill>
        <p:spPr>
          <a:xfrm>
            <a:off x="2743200" y="3124080"/>
            <a:ext cx="3990960" cy="2857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57Z</dcterms:created>
  <dc:creator>sicardjul</dc:creator>
  <dc:description/>
  <dc:language>en-US</dc:language>
  <cp:lastModifiedBy>sicardjul</cp:lastModifiedBy>
  <dcterms:modified xsi:type="dcterms:W3CDTF">2011-10-26T13:57:54Z</dcterms:modified>
  <cp:revision>6</cp:revision>
  <dc:subject/>
  <dc:title>La  Casa</dc:title>
</cp:coreProperties>
</file>